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A0F6-0DB2-4EA1-86A7-8F80622EF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73D7-48F6-4870-8E33-270072136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6F47-2D42-4B7D-B71B-D0140A566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DB24-071C-4734-81F5-87A89FA15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AE6A-D331-4D68-95C2-88AA12AD16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4F6D-4703-42BB-A832-D4BFC2BE8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AFFE-67B4-4B77-AD23-37B188FC1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8414-ECED-4341-BCD5-323D1CC91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D923-B223-4FB5-962E-F398DF8D0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6B46-6D79-4336-87B5-B8FAA9B8F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FF92-F636-44EC-B1B3-78FC46848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4D5B-4EA2-4391-BD10-E183A0BB1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15D908-2666-456C-9E1C-65CE7E9C30B5}" type="slidenum">
              <a:rPr b="1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7621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447920"/>
            <a:ext cx="7924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Arial"/>
              </a:rPr>
              <a:t>«Семейный бюджет»                      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76520" y="609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444600" y="2014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81400" y="533520"/>
            <a:ext cx="386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етвертый эта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День рождения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52560" y="2550960"/>
            <a:ext cx="735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 спланировать проведение праздника исходя из заработанных финансов. Победителем является та команда, у которой останется большее количество денег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90720" y="228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оход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762120"/>
            <a:ext cx="335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914400"/>
            <a:ext cx="3657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3049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сход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5079960"/>
            <a:ext cx="2362320" cy="15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3520" y="533520"/>
            <a:ext cx="8153280" cy="27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63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1" strike="noStrike">
                <a:ln cap="sq"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юджет</a:t>
            </a:r>
            <a:endParaRPr b="1" lang="en-US" sz="4400" spc="1" strike="noStrike">
              <a:ln cap="sq"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37339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о  план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ходов  и расход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 неделю,  месяц  или  год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5433840"/>
            <a:ext cx="1600200" cy="10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581280" cy="3213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52680" y="609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Бюдже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133720"/>
            <a:ext cx="205740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Доход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 денежные  средства,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лучаем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от    предприятия  или  государств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2133720"/>
            <a:ext cx="1828800" cy="18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Расход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траты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издержки,  потреб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50960" y="6724800"/>
            <a:ext cx="914400" cy="144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03240" y="6877080"/>
            <a:ext cx="914400" cy="144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05520" y="1143000"/>
            <a:ext cx="1028520" cy="1440"/>
          </a:xfrm>
          <a:prstGeom prst="line">
            <a:avLst/>
          </a:prstGeom>
          <a:ln cap="sq"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1143000"/>
            <a:ext cx="914400" cy="144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62200" y="51732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доход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517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асход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228600" y="2041560"/>
            <a:ext cx="9601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Зарплата,  коммунальные  услуги,  пенсия,  пособие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пендия,   плата  за  телефон,    плата  за    детский сад,  поход в театр,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упка хозяйственных  принадлежностей,  транспортные  расходы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 на  питание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9810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плата, пенсия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ие, стипендия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7840" y="1600200"/>
            <a:ext cx="307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альные  услуги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та  за  телефон,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та  за    детский сад,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д в театр,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упка хозяйственных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носте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ные  расходы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 на  пит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666880" y="304920"/>
            <a:ext cx="2133720" cy="1747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43200" y="1066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джет семь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486400" y="54100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391520" y="4648320"/>
            <a:ext cx="1428480" cy="1076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562720" y="3886200"/>
            <a:ext cx="120780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2895480" y="3886200"/>
            <a:ext cx="1343160" cy="1047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380880" y="3581280"/>
            <a:ext cx="1428840" cy="130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2057400" y="5410080"/>
            <a:ext cx="1324080" cy="1067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733920" y="54100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7238880" y="380880"/>
            <a:ext cx="1419480" cy="9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76520" y="609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444600" y="2014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304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Виды бюджет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371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балансированный бюдж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3080" y="2438280"/>
            <a:ext cx="34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ицит бюдже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42670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лишек бюджета (профицит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133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 = 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2560" y="3073320"/>
            <a:ext cx="20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865840" y="5105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76520" y="609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444600" y="2014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52560" y="609480"/>
            <a:ext cx="735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рвый этап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Семейный бюджет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52560" y="2014560"/>
            <a:ext cx="697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заполнении таблицы оценивается скорость  и правильность выполнения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верное выполнение задания команда получает премию: 1 место - 20000 рублей, 2 место - 12000 рубл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76520" y="609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444600" y="2014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5160" y="2162160"/>
            <a:ext cx="7493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 выполнении задания второго  этапа каждая команда  просчитывает имеющийся бюджет семьи на месяц, проводит предварительное распределение семейного бюджет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верное выполнение задания команда получает премию: 1 место - 25000 рублей, 2 место - 13000 рубл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301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торой эта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Расчет семейного бюджета и заполнение таблиц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6520" y="609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444600" y="2014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14480" y="43812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Третий эта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Продуктовая корзина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090880"/>
            <a:ext cx="750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 сделать покупки наиболее выгодно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верное и быстрое выполнение задания семья получает премию: 1 место - 12000 рублей, 2 место – 7000 рубл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</dc:creator>
  <dc:description/>
  <dc:language>en-US</dc:language>
  <cp:lastModifiedBy>Админ</cp:lastModifiedBy>
  <dcterms:modified xsi:type="dcterms:W3CDTF">2023-02-15T22:20:0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